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75078"/>
        <c:axId val="36604317"/>
      </c:barChart>
      <c:catAx>
        <c:axId val="48775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04317"/>
        <c:crosses val="autoZero"/>
        <c:auto val="1"/>
        <c:lblAlgn val="ctr"/>
        <c:lblOffset val="100"/>
        <c:noMultiLvlLbl val="0"/>
      </c:catAx>
      <c:valAx>
        <c:axId val="36604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75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9C1-76C8-48D8-9121-0D9F9281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935-8769-496E-8602-41D3AD0A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A1A-1620-488B-8C76-51DE43D5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0B7-6341-4FF1-A000-509A5E9C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617-A4E7-487A-BFB2-60409605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BC73-C50B-4505-B860-1800B8DC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C51-1E87-4A0A-8204-52B255F2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BCA-E42D-4A12-965B-765D6116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0AF-CCCB-4E57-BEEF-F5602669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0DB-539C-48AE-9A98-1C91CD4A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C0B-010A-43E6-A964-5B511478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865-F6DC-4DF6-A15F-E0CB46E7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563B4-944F-458B-98BD-982F86AF0B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