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598494"/>
        <c:axId val="1457799"/>
      </c:barChart>
      <c:catAx>
        <c:axId val="905984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7799"/>
        <c:crosses val="autoZero"/>
        <c:auto val="1"/>
        <c:lblAlgn val="ctr"/>
        <c:lblOffset val="100"/>
        <c:noMultiLvlLbl val="0"/>
      </c:catAx>
      <c:valAx>
        <c:axId val="14577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984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0DC4-9A2F-4B33-9B88-ADF2B36C0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902C-09C5-4E3D-A785-792AEA14F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2F1-C826-4131-9277-9335A4D99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E89C-1939-43F4-912F-51EE843F3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64CC0-634A-4CE3-9CF6-C1817221A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AD5E-52CE-4E2C-BD80-E2AE289A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74B1-F102-47E7-BA26-CE9E225FB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E7AD-2CE8-42AF-A966-6CA5726C8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AFA-CC4E-4854-9173-331B54982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D109-23A6-465F-BF5D-22F4DB2F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211D-2FB3-479C-A89F-28E5D5A6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BE3-8ED6-461D-87CE-A378252AD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670E6-0BB4-4BF5-9841-3E2474A1C5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