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58348"/>
        <c:axId val="38817415"/>
      </c:barChart>
      <c:catAx>
        <c:axId val="44658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17415"/>
        <c:crosses val="autoZero"/>
        <c:auto val="1"/>
        <c:lblAlgn val="ctr"/>
        <c:lblOffset val="100"/>
        <c:noMultiLvlLbl val="0"/>
      </c:catAx>
      <c:valAx>
        <c:axId val="38817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58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C85-1893-4638-BA01-30C73CDE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E1F-DF34-4589-B57F-E62D61D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763-0089-4BF0-9C95-03581C03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008-F35E-4EC7-86FB-55393122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9B2-B5F2-47F8-AAB3-27F2BDA4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6FC-D3F5-4FC2-8159-51F21003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EAA-7200-4958-AD2D-255EFE7F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935-9516-439B-8DB1-E8799E8E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7F7-CBF1-44F3-A8C7-CEA44C66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A52-015F-48A0-8864-87FA56BE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B06-E7EF-4CDB-BC00-0BEAF20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794-F5D5-444D-8593-EBC69464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47737-2D2D-4BF1-9C8C-1B20869427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