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218"/>
        <c:axId val="62423262"/>
      </c:barChart>
      <c:catAx>
        <c:axId val="828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3262"/>
        <c:crosses val="autoZero"/>
        <c:auto val="1"/>
        <c:lblAlgn val="ctr"/>
        <c:lblOffset val="100"/>
        <c:noMultiLvlLbl val="0"/>
      </c:catAx>
      <c:valAx>
        <c:axId val="62423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159-E753-48CA-A1AF-13091DC1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344-8110-416D-ABC6-B8BF37A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76D-DE7C-4894-AD48-4662BB97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E33-0EE7-4DBF-BE8D-ED95CD79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812-3CEA-4246-86ED-9A74446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C61-6B03-41E4-9F11-63ECD1BD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49A-52FD-45F6-9B6B-C943E96A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5DF-3D17-4CBF-B832-D2BEC18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254-F8AD-4D65-A4FD-627FFA05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033-E854-4C03-8E96-0FB49B0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E19-D673-486D-B926-B02D080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1E8-A6F9-4D24-AE72-E8FFC97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90274-DBC0-4E10-8F8F-73ED058FC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